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4DE-53A3-4B08-B4FB-F09079B6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7F7-9802-4BA9-B11F-2920F2DC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F49-57AC-4932-957A-577FB886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9E7-27D3-46C6-94DB-03FDDED6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3AA0-19E5-4D59-B304-9EA573D6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F68E-1266-4973-A188-B1EC96A7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0491-D416-4F29-A59C-FF325BE3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E88E-49BB-4DAC-B14C-D1FA2B2C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B8D5-FD6D-4EC9-83FE-2E3DDB5A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78C6-E201-443B-983F-9F25015F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658F-D1DC-45AD-9FFD-71E6FA8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60D-1810-4857-A431-9280250E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1BF1-5BAC-4FAB-8DA2-804FD73B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153E-9240-475D-8170-9FEEF8B8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1446-6B09-46AE-8E50-B56B1C94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6B58-02D4-4F36-9D10-7C83CC5E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4815-FE0A-470A-8578-9CE62DBF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E968-AC48-41EE-9756-9192593C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ABA47-4BD0-4C52-939B-86C4C6A3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9F90B-5501-46CF-9651-E8FFB4EA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E8CB-EB53-42EC-B32F-17B1FF6E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B5C3-A737-4096-B1EC-11878BA6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3B1-1D51-4372-9EB0-96C299A0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3673-2C27-412C-9B20-A3F3C605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76C9B-FF4D-4EAE-946C-712484D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27ED-2BB8-4948-A8A5-6ABBD79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DEC6-4763-45A4-AC58-A6790BA0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C1F94-7BA3-4529-B44E-C0195C2D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F266-CF7E-48D6-899B-585F2E99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9B9A-31CE-4BFF-B3D7-16714982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2A8C3-8D1F-4CD4-9BE6-E5693CED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57934-F627-4F91-9ED8-937D40AA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5AD9-380B-4BBB-B958-EA75C9C4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4AA-8AF8-4B5F-8BB9-96459C7A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72303-3580-4459-BF9A-876BD745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B7DD-8ADD-4B1E-BBAE-0104F3A7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C647-C0B9-48D1-9B28-B71D7AF6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353B5-E3F0-4371-910F-5FB9555E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9F43B-4E33-4933-8526-8815DB6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758B-1F31-464F-B8CE-7FD1E347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41A88-FC30-4B78-AB66-E50BF1C5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9955-178B-44BB-AE1F-EA5016B9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8193E-449D-49B3-AFB6-7BB5B1D5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A5D08-71DA-4261-B4D5-878D84DC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ED3-AEA5-4C61-9013-72C6C982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FC594-A794-4055-B20B-B05C8A0A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2980E-AD4D-4EB4-98F6-C06329A9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5C91C-D266-4FD4-8DD3-FA7BD59D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7C0CC-E4B5-4299-91A3-0946C0CA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0FFC-F6BA-485D-A2D7-0291B4D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D3D4F-FD9D-4F99-ACCD-0DE1B445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94E6B-8CEB-4AE7-A65D-C7AA56AE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5B9CB-233A-4658-AA5B-587FFF9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6FDC7-A389-4A47-A3DF-B620DBCC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06E9A-5685-4EAD-805D-EF795EA1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762-AEDC-4416-8DFB-7C97B03A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EBB5D-FF76-4D35-A488-FE3656CA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95CD-151C-40DF-8138-A9BE5F63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1B7ED-4892-4694-B1EE-053E61AE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99B6E-950B-4A69-8E64-B8BB1EC3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1754D-2805-4B21-934A-F713E209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7FF9-E420-4015-8F26-82BFA7E3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783CF-4DD1-453E-B80F-120DDB10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143C8-3553-4514-9DEF-7E2A3379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B09C5-0916-4524-98C3-B63EB191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E0E8-651C-467E-8B5A-3D7C978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F20-471C-4F45-81E2-9EBBD31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C2CBD-F23E-421C-932C-67D919E1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9BD7C-0FAF-43C5-8E22-83CDD96E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D12B-6AA7-4B89-AC06-36EA2C0D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2D3DD-F5F7-4ACA-956A-3A822672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C8B8-4AB8-455A-B1D8-B53204C4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EA904-93F3-498A-920D-BFE50914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FD646-DDC2-4B96-961F-E34B4CCC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22182-932E-4D65-BB2E-3B1303AB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577AB-A222-445C-81B7-0A0F9A8B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2A770-15ED-4F05-BBB6-3C2D2D1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EBC-5147-41CE-8A4E-A0FA11E2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48768-EC91-42D2-A575-DD6B6DDA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766ED-A30E-48C3-B2D0-ABDDDF77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340C1-0020-4A03-B768-31721E3C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A0E2F-BF36-43C4-826F-D97F6FB0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FD299-1498-4F41-BE47-DA1988F8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3BA-CA2D-4C5E-91FD-B2653338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6F33-11AB-47BA-8345-A4DA472E476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F8AD-DA35-4C79-83DD-ACD49DD489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1D53-072A-4CB5-AF4E-F10806D0CE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C147-D037-4A02-8D69-184B3855213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590A-86E1-4484-A4AB-96478943E2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868D-AE1C-480D-A351-872997C09C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D6DA-96A1-478E-8079-73746CF5B1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50000">
              <a:srgbClr val="ffffff"/>
            </a:gs>
            <a:gs pos="100000">
              <a:srgbClr val="32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371240" y="5429160"/>
            <a:ext cx="3700440" cy="46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79766f"/>
                </a:solidFill>
                <a:latin typeface="Verdana"/>
              </a:rPr>
              <a:t>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1692360" y="1844640"/>
            <a:ext cx="6408720" cy="27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ормон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ептидн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птидные гормоны имеют более простое строение, чем белковые. При этом их мономером, как известно, так же являются альфа аминокислоты. Представитель: биохимический и функциональный антипо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улина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юкаго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Составные части эндокринной системы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00040" y="499680"/>
            <a:ext cx="4354560" cy="307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уморальная система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состоит из восьми часте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таламус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Гипо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Эпифи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аращитовидн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Надпочечни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Бета-клетки (островки Лангерганса) поджелудочной железы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Половые желез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5" descr="post-18-1151496150"/>
          <p:cNvPicPr/>
          <p:nvPr/>
        </p:nvPicPr>
        <p:blipFill>
          <a:blip r:embed="rId1"/>
          <a:stretch/>
        </p:blipFill>
        <p:spPr>
          <a:xfrm>
            <a:off x="5000760" y="674640"/>
            <a:ext cx="3429000" cy="44690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5"/>
          <p:cNvSpPr/>
          <p:nvPr/>
        </p:nvSpPr>
        <p:spPr>
          <a:xfrm flipV="1" rot="10800000">
            <a:off x="1071720" y="3364560"/>
            <a:ext cx="37144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щий вес этих органов не превышает 100 г, а количество выделяемых ими биологически активных веществ измеряется десятитысячными долями миллиграмма! Способность оказывать мощное воздействие на организм в ничтожно малых концентрациях - главная особенность гормонов. Например, грамма инсулина достаточ­но, чтобы снизить уровень сахара в крови 125 тыс. кроликов</a:t>
            </a:r>
            <a:r>
              <a:rPr b="0" lang="ru-RU" sz="11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Эндокринный мозг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13880" y="642960"/>
            <a:ext cx="4211640" cy="364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ходится в самой середине мозга, под зрительными буграми. Эта часть мозга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сом в полграмм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ирует работу всей гуморальной системы, вырабатыва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пециальные нейрогормоны рилизинг-факторы и ингибитор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Первые поступая с током крови в гипофиз служат сигналом для синтеза более сложных гормонов, которые в свою очередь активируют какую-либо железу внутренней секреции. Ингибиторы же затормаживают эндокринную активность гипофи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 же в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гипоталамус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интезируются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вазопрессин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кситоци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отвечающие за водно-солевой баланс и поддержание тонуса сосуд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2" name="Picture 11" descr=""/>
          <p:cNvPicPr/>
          <p:nvPr/>
        </p:nvPicPr>
        <p:blipFill>
          <a:blip r:embed="rId1"/>
          <a:stretch/>
        </p:blipFill>
        <p:spPr>
          <a:xfrm>
            <a:off x="4633200" y="2642400"/>
            <a:ext cx="136692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гипот"/>
          <p:cNvPicPr/>
          <p:nvPr/>
        </p:nvPicPr>
        <p:blipFill>
          <a:blip r:embed="rId2"/>
          <a:stretch/>
        </p:blipFill>
        <p:spPr>
          <a:xfrm>
            <a:off x="5786280" y="500040"/>
            <a:ext cx="268632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Эпифиз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42960" y="1213920"/>
            <a:ext cx="4214880" cy="3643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Эпифиз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(шишковидная железа) верхний мозговой придаток. Предполагается, что эпифиз вырабатывает ряд биологически активных веществ, которые регулируют деятельность иммунной системы, рост, половое созревание, водно-солевой и пигментный обмен. Их химическое строение и роль в организме до конца не изучен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ольше всего сведений на сегодняшний день о </a:t>
            </a: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Verdana"/>
              </a:rPr>
              <a:t>мелатонине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 Это, так называемый, гормон молодости, устанавливающий биологические ритмы организм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8" descr="эпифиз"/>
          <p:cNvPicPr/>
          <p:nvPr/>
        </p:nvPicPr>
        <p:blipFill>
          <a:blip r:embed="rId1"/>
          <a:stretch/>
        </p:blipFill>
        <p:spPr>
          <a:xfrm>
            <a:off x="4929120" y="785880"/>
            <a:ext cx="3554640" cy="46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Щитовидная желез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2920" y="642960"/>
            <a:ext cx="4211640" cy="4075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Щитовидная желез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ет три важных гормона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еокальцетон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Последний гормон участвует в обмене кальция, происходящем в организме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ирокс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ийодотиранин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гулируют процессы роста и развития, влияют на нервную систему, сердце и половые железы, повышают интенсивность обмена веществ, в частности окислительных реакций, проходящих с выделением теп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щитовид"/>
          <p:cNvPicPr/>
          <p:nvPr/>
        </p:nvPicPr>
        <p:blipFill>
          <a:blip r:embed="rId1"/>
          <a:stretch/>
        </p:blipFill>
        <p:spPr>
          <a:xfrm>
            <a:off x="4786200" y="714240"/>
            <a:ext cx="388008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аращитовидные железы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3280" y="785880"/>
            <a:ext cx="40687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аращитовидные желез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рабатывают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аратероид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ормон, регулирующий обмен кальция и фосфора, от интенсивности которых зависят нервных импульсов, образование костной ткани, сокращение мышц и многое друго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6" descr="паращит"/>
          <p:cNvPicPr/>
          <p:nvPr/>
        </p:nvPicPr>
        <p:blipFill>
          <a:blip r:embed="rId1"/>
          <a:stretch/>
        </p:blipFill>
        <p:spPr>
          <a:xfrm>
            <a:off x="4468680" y="928800"/>
            <a:ext cx="35337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Надпочечники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2920" y="928800"/>
            <a:ext cx="356868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Надпочечни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стоят из мозгового вещества и коры. Гормоны коры надпочечников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ртикостероид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отвечают за адаптацию к проявлениям среды, в частности к холод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зговой слой вырабатывает два гормона: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адреналин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норадренали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Они регулируют функцию сердечно-сосудистой системы и влияют на обмен, прежде всего углев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7" descr="надпоч"/>
          <p:cNvPicPr/>
          <p:nvPr/>
        </p:nvPicPr>
        <p:blipFill>
          <a:blip r:embed="rId1"/>
          <a:stretch/>
        </p:blipFill>
        <p:spPr>
          <a:xfrm>
            <a:off x="4357800" y="1063800"/>
            <a:ext cx="3786120" cy="37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8d3e"/>
                </a:solidFill>
                <a:latin typeface="Verdana"/>
              </a:rPr>
              <a:t>Бета-клетки (островки Лангерганса) поджелудочной железы.</a:t>
            </a:r>
            <a:br>
              <a:rPr sz="2900"/>
            </a:b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2920" y="428760"/>
            <a:ext cx="4282920" cy="335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батывает два гормона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инсули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глюкого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Соответственно, первый снижает уровень глюкозы в крови, второй гормон его повыша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6" descr="поджелуд"/>
          <p:cNvPicPr/>
          <p:nvPr/>
        </p:nvPicPr>
        <p:blipFill>
          <a:blip r:embed="rId1"/>
          <a:stretch/>
        </p:blipFill>
        <p:spPr>
          <a:xfrm>
            <a:off x="4714920" y="12859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Половые желез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2920" y="571680"/>
            <a:ext cx="356868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половой принадлеж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огестерон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славливают появление женских половых призна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ндроген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тестостерон)– мужских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4857840" y="714240"/>
            <a:ext cx="3429000" cy="47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Verdana"/>
              </a:rPr>
              <a:t>Гармоничный баланс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Verdana"/>
              </a:rPr>
              <a:t>В нормальном состоянии существует гармоничный баланс между активностью эндокринных желез, состоянием нервной системы и ответом тканей-мишеней (тканей, на которые направлено воздействие). Любое нарушение в каждом из этих звеньев быстро приводит к отклонениям от нормы. Избыточная или недостаточная продукция гормонов служит причиной различных заболеваний, сопровождающихся глубокими химическими изменениями в организме.</a:t>
            </a:r>
            <a:r>
              <a:rPr b="0" lang="ru-RU" sz="2800" spc="-1" strike="noStrike">
                <a:solidFill>
                  <a:srgbClr val="0d0d0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168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Гормоны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 биологически активные вещества, вырабатываемые железами внутренней секреции,  регулирующие деятельность органов и тканей организ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оль гормонов велика. Эти вещества влияют практически на все процессы, происходящие в организме, сохраняя внутреннюю стабильность среды (гомеостаза), противостояние отрицательным внешним воздействия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1714680" y="4572000"/>
            <a:ext cx="6000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ермин «гормоны» введён англ. физиологами У. Бейлиссом и Э. Старлингом в 1902 г.. Известно более 30 гормонов, выделяемых эндокринными железами млекопитающих и человека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Нарушение функций гипофиз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ГАНТИЗМ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гипофизарный) - аномальный рост человека, превышающий норму. Вызывается нарушением деятельности желез внутренней секреции (главным образом гипофиза, щитовидной и половых желез). При частичном гигантизме увеличены пальцы, кисти, стопы, череп. При гипофункции гипофиза возникают </a:t>
            </a: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ГИПОФИЗАРНЫЕ ЛИЛИПУ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9f25"/>
                </a:solidFill>
                <a:latin typeface="Verdana"/>
              </a:rPr>
              <a:t>АКРОМЕГАЛ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греч. akron — конечность и megas, род. п. megalu — большой), эндокринное заболевание, обусловленное избыточной продукцией гормона роста. Возникает преимущественно после завершения роста организма: увеличение конечностей, нижней челюсти и т. 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лева: Гипофизарный гигант, рядом женщины нормального роста.</a:t>
            </a:r>
            <a:br>
              <a:rPr sz="2500"/>
            </a:b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Фото справа: Разрастание котей лицевого черепа при акромегалии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7" name="Picture 6" descr="S7002592"/>
          <p:cNvPicPr/>
          <p:nvPr/>
        </p:nvPicPr>
        <p:blipFill>
          <a:blip r:embed="rId1"/>
          <a:stretch/>
        </p:blipFill>
        <p:spPr>
          <a:xfrm>
            <a:off x="1571760" y="2071800"/>
            <a:ext cx="58579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Известны случаи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искусственном введении гормона роста детям, страдающим недостаточностью функции гипофиза, их рост увеличивался в течение 6 месяцев на 5-6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гиперфункции гипофиза рост превышает 2 м. Римский император Максимиллиан был ростом 2,5 м, а русский крестьянин Махнов – 2.8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женщин наибольший рост отмечен у швейцарки Амы – 2,35 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гипетская карлица Агибе имела рост 38 с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рушение функций щитовидной желез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Базедова болезнь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- эндокринное заболевание, обусловленное повышенной функцией щитовидной железы, избыточно выделяющей тироксин, что приводит к тиреотоксикозу. Основные симптомы: зоб, пучеглазие, тахикардия, повышение основного обмена, исхуд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МИКСЕДЕМА или СЛИЗИСТЫЙ ОТЁК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греч. myxa — слизь и oidema — опухание, отек), эндокринное заболевание, обусловленное врожденным или приобретенным нарушением функции щитовидки. Признаки: отек кожи и подкожной клетчатки, выпадение волос, вялость, снижение умственных способност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07f09"/>
                </a:solidFill>
                <a:latin typeface="Tahoma"/>
              </a:rPr>
              <a:t>КРЕТИНИЗМ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(от франц. cretin — слабоумный, кретин), эндокринное заболевание — недостаточная функция щитовидной железы, задержка физического и психического развития; главным образом в горных районах с недостатком иода в воде или как наследственная патолог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6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Tahoma"/>
              </a:rPr>
              <a:t>Если нарушен синтез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6b9f25"/>
                </a:solidFill>
                <a:latin typeface="Verdana"/>
              </a:rPr>
              <a:t>ИНСУЛИНА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сулин — универсальный анаболический гормон. Он не только понижает содержание сахара в крови, но, задерживая распад гликогена, увеличивает использование глюкозы 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им образом, гормоны поджелудочной железы контролируют снабжение клеток и тканей глюкозой, поддерживают ее постоянный гомеостатический уровень в крови. Они регулируют также жировой обмен, так как углеводы и липиды могут превращаться друг в друг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ДИАБЕТ САХАРНЫ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diabetes mellitus; синоним: сахарная болезнь, сахарное мочеизнурение), болезнь обмена веществ, при котором, в первую очередь, нарушается углеводный обмен. Это заболевание характеризуется поражением всех внутренних органов с изменением их функциональной 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харный диабет — это болезнь, которая стала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бичом ве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она охватывает 3% населения земного шара. Среди других заболеваний сахарный диабет </a:t>
            </a:r>
            <a:r>
              <a:rPr b="0" lang="ru-RU" sz="1800" spc="-1" strike="noStrike">
                <a:solidFill>
                  <a:srgbClr val="6b9f25"/>
                </a:solidFill>
                <a:latin typeface="Verdana"/>
              </a:rPr>
              <a:t>занимает 3-е место по смерт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6%) после сердечно-сосудистых (51%) и онкологических (17%) заболева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d3e"/>
                </a:solidFill>
                <a:latin typeface="Verdana"/>
              </a:rPr>
              <a:t>Применение и значе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1"/>
          <a:stretch/>
        </p:blipFill>
        <p:spPr>
          <a:xfrm>
            <a:off x="6140520" y="714240"/>
            <a:ext cx="2444760" cy="4643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500040" y="1285920"/>
            <a:ext cx="528624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моны – важнейший элемент жизни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болевания эндокринной системы приводят к тяжелейшим патологиям и, нередко, смерти. Интегрированное химико-биологическое исследование этого класса органических соединений открывает огромные перспективы  по созданию лекарств, не имеющих побочных эффектов, совершенствованию технологий генной инженерии и во многих других отрас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4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Механизм действия гормонов</a:t>
            </a:r>
            <a:br>
              <a:rPr sz="40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5840" y="499680"/>
            <a:ext cx="8501040" cy="6024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ы действуют на органы избирательно, это объясняется тем, что клетки определенных органов содержат специальные образования -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рецепторы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Органы или клетки, на которые действует конкретный гормон, называют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органами-мишенями или клетками-мишенями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Во внеклеточной жидкости содержится множество разнообразных соединений, но рецепторы узнают лишь очень немногие из них. Кроме того, рецепторы должны выбрать определенные молекулы из множества других, присутствующих в более высокой концентрации.  Каждая клетка может нести либо один тип рецепторов, либо нескольк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6" descr="Безымянный"/>
          <p:cNvPicPr/>
          <p:nvPr/>
        </p:nvPicPr>
        <p:blipFill>
          <a:blip r:embed="rId1"/>
          <a:stretch/>
        </p:blipFill>
        <p:spPr>
          <a:xfrm>
            <a:off x="714240" y="3176640"/>
            <a:ext cx="75470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7858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ТИПЫ РЕАЛИЗАЦИИ ГОРМОНАЛЬНОГО ДЕЙСТВ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3880" y="121428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ый тип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. При взаимодействии гормона с клеточной мембраной изменяется ее проницаемость для определенных веществ. Так под действием инсулина активируются системы транспорта глюкозы и она начинает активно проникать в клет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При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мбранно-клеточном типе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гормон не проникая в клетку, а влияет на ее обмен через своего посредника (вторичного </a:t>
            </a: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мессенджер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а, первичный - сам гормон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Цитозольный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механизм (или </a:t>
            </a:r>
            <a:r>
              <a:rPr b="1" lang="ru-RU" sz="1800" spc="-1" strike="noStrike">
                <a:solidFill>
                  <a:srgbClr val="0d0d0d"/>
                </a:solidFill>
                <a:latin typeface="Verdana"/>
              </a:rPr>
              <a:t>ядерный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) свойственен липофильным белкам - стероидам. Они проникают через клеточную мембрану в цитозоль и соединяются с внутриклеточными рецепторами. Комплекс гормон-рецептор проникает в ядро клетки, где избирательно влияет на активность генома, это приводит к снижению или активации синтеза определенных ферментов, что приводит к изменению скорости или направления определенных реак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Смешанный тип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- присущ йодтиронинам (гормонам щитовидной желез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200"/>
                            </p:stCondLst>
                            <p:childTnLst>
                              <p:par>
                                <p:cTn id="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2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2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2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 гормон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уществует две основные классифик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900000" y="2781360"/>
            <a:ext cx="324036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железам внутренней секреции продуцирующим гормо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03640" y="2781360"/>
            <a:ext cx="3745080" cy="1368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химической приро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 вниз 10"/>
          <p:cNvSpPr/>
          <p:nvPr/>
        </p:nvSpPr>
        <p:spPr>
          <a:xfrm>
            <a:off x="2286000" y="1714680"/>
            <a:ext cx="191304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низ 11"/>
          <p:cNvSpPr/>
          <p:nvPr/>
        </p:nvSpPr>
        <p:spPr>
          <a:xfrm>
            <a:off x="4857840" y="1714680"/>
            <a:ext cx="1490400" cy="928440"/>
          </a:xfrm>
          <a:prstGeom prst="downArrow">
            <a:avLst>
              <a:gd name="adj1" fmla="val 4637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фикация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о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химической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природе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26" name="Diagram 7"/>
          <p:cNvGrpSpPr/>
          <p:nvPr/>
        </p:nvGrpSpPr>
        <p:grpSpPr>
          <a:xfrm>
            <a:off x="3853800" y="3240720"/>
            <a:ext cx="1891080" cy="1163880"/>
            <a:chOff x="3853800" y="3240720"/>
            <a:chExt cx="1891080" cy="1163880"/>
          </a:xfrm>
        </p:grpSpPr>
        <p:sp>
          <p:nvSpPr>
            <p:cNvPr id="327" name="_s1028"/>
            <p:cNvSpPr/>
            <p:nvPr/>
          </p:nvSpPr>
          <p:spPr>
            <a:xfrm>
              <a:off x="3853800" y="3240720"/>
              <a:ext cx="1891080" cy="1163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ормон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8"/>
          <p:cNvSpPr/>
          <p:nvPr/>
        </p:nvSpPr>
        <p:spPr>
          <a:xfrm>
            <a:off x="3357720" y="2000160"/>
            <a:ext cx="2366640" cy="92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3286080" y="521496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т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642960" y="3714840"/>
            <a:ext cx="252108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но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6000840" y="3429000"/>
            <a:ext cx="252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4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о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>
            <a:off x="4500720" y="2924280"/>
            <a:ext cx="0" cy="5760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4"/>
          <p:cNvSpPr/>
          <p:nvPr/>
        </p:nvSpPr>
        <p:spPr>
          <a:xfrm>
            <a:off x="3000240" y="3929040"/>
            <a:ext cx="72072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>
            <a:off x="4643280" y="4572000"/>
            <a:ext cx="0" cy="79200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7"/>
          <p:cNvSpPr/>
          <p:nvPr/>
        </p:nvSpPr>
        <p:spPr>
          <a:xfrm>
            <a:off x="5715000" y="3929040"/>
            <a:ext cx="79200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5286240"/>
            <a:ext cx="8183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Стероидные гормон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ероидные гормоны обладают сложной циклической структурой. Например: тестестерон, наиболее важный представитель андрогенов(мужские половые гормоны) и эстроген (женский половой гормон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6807240" cy="23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Гормоны производные аминокисло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03280" y="529920"/>
            <a:ext cx="8183520" cy="568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рмоны производные аминокислот имеют относительно простое строение, что, однако не умаляет их значения в организме. Наиболее известные представители: адреналин, норадреналин, тирокс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ная формула адренали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rcRect l="4475" t="7870" r="0" b="11991"/>
          <a:stretch/>
        </p:blipFill>
        <p:spPr>
          <a:xfrm>
            <a:off x="3214800" y="3214800"/>
            <a:ext cx="52257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8d3e"/>
                </a:solidFill>
                <a:latin typeface="Verdana"/>
              </a:rPr>
              <a:t>Белковые гормоны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лковые гормоны обладаю характерными для белков свойствами: большой относительной молекулярной массой, способностью формирования первичной, вторичной, третичной и четвертичной пространственных структур и т.д. Самый известный представитель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ули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Этот гормон стал первым белком, который удалось синтезировать химическим пут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40:46Z</dcterms:created>
  <dc:creator>1</dc:creator>
  <dc:description/>
  <dc:language>en-US</dc:language>
  <cp:lastModifiedBy>Admin</cp:lastModifiedBy>
  <dcterms:modified xsi:type="dcterms:W3CDTF">2012-02-13T15:55:44Z</dcterms:modified>
  <cp:revision>17</cp:revision>
  <dc:subject/>
  <dc:title>Г</dc:title>
</cp:coreProperties>
</file>